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AD90-1FC2-44A7-9B4C-E2C7C9408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A9ED-E753-4477-B608-2D64404C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F3F6-48CE-4738-B364-20DECBB2B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CD5D-F375-4D28-8E40-0BFBF377C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A907E-BDC8-404D-8C36-71DC93409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575AE-F718-48E7-8104-EBD6F4FC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57D29E-4434-41F0-9A0E-6BBD65FA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5299E-0082-4D99-8BE8-E8D7974F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2AF0AD-F382-4AC9-A7D4-2CC9FCA2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F81A3-17EF-43DA-8C72-0644F12F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567F13-6579-42CE-9DC6-A8643CD2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3427-AA4C-4445-AB15-A7F706A2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3EE588-5265-4B56-9AA2-0C55F39F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97749-010C-41C2-ADA8-D7493216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FBC4E-1F2C-4CC0-9602-7F969A8C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5D7F0D-E2C7-4455-8CA4-194329D21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83C93-6AFA-4F28-A861-5B63FDC5D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9BB5-8705-4940-BB60-146668A5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9097-4D07-46A1-8838-F9817C5F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8663-FD25-4223-B77D-B93E2563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2400-A519-43E2-AB01-BBDDD6BC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4E85-8941-49D7-B4E1-A4DE4DAA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2550-0BDA-41C9-8416-A94BA891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1EDA-8827-4DA5-8F90-E0CF3197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D822-C792-4807-8400-941C4C761C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DE39-FE05-4F8E-82A0-53787F2F6C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Formation and Inhabitation of Utah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2 and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mportant Eras in Utah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ambrian-earliest era and formation of Uta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leozoic-Gave us fossil fuel, coal , oil, and natural g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ozoic- Dinosaurs and Rocky Mountain 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ozoic-Surface was being shaped to resemble today’s landscap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inosau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at Des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nosaurs National Monu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3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0 par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495680" y="2703600"/>
            <a:ext cx="4648320" cy="4154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495680" y="65530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olarnavigator.n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ormation of Rock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tes pushed together until they started to fold, creating faul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canic activity pushed up the mountains and helped form the surf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Natural Wealth in Utah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ich 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ssil fu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erals such as gold, silver, coo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T (enough for the world for a thousand yea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724280" y="3746520"/>
            <a:ext cx="3124440" cy="2992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724280" y="64008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rketplace.publicradio.or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ce 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ge Glacier moved down scrapping the earth’s surf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800600" y="2133720"/>
            <a:ext cx="3114720" cy="4510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800600" y="649116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ww.impawards.c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ake Bonnevil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it’s peak: 20,000 sq miles and 1,000 de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por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ke through the red pass in northern cache valley emptying into Snake and Columbia Riv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ver that flowed into it enriched our soi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anges happening toda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dsl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s dams by blocking rivers which cause flo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thquak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 700 a year, mostly on Western Wasatch slo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4T22:34:19Z</dcterms:created>
  <dc:creator>James Fife</dc:creator>
  <dc:description/>
  <dc:language>en-US</dc:language>
  <cp:lastModifiedBy>James Fife</cp:lastModifiedBy>
  <dcterms:modified xsi:type="dcterms:W3CDTF">2009-02-14T23:04:30Z</dcterms:modified>
  <cp:revision>2</cp:revision>
  <dc:subject/>
  <dc:title>Formation and Inhabitation of Utah</dc:title>
</cp:coreProperties>
</file>